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2E6-2E2B-4623-BCFE-B45AC9B8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F2D-C74A-4C37-B5C5-894A34A3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55F-64EC-4CB9-8890-5ADA6FE9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2A9-49AC-43ED-AC13-5FCDE34F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0C82-A37F-4498-B52C-509A951F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ACAE-302D-4CD0-B5D0-1889FAB1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3DAF-758A-46D1-BD27-D5E5F700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C76C-9B89-43EE-B9FE-E960F1FC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810B-7520-4D1C-AB94-44A8DC21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6BA1-5AC7-4B80-9730-102C663F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C73D-E9E9-48CF-8E1C-50615042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14F-D298-4AEC-9D72-E256659C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AF20-2CA9-489A-9615-6BE86D33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C4D2-2BCD-4D2C-8C4A-947D03A2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0EF7-491B-43DD-AB62-1B7280C8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576A-9DFC-45FF-B9B8-12BCCF97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1921-5103-4CFE-90EE-B7D88531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4DB-04C6-4E24-BEF6-F584F0FA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3E3-C313-4571-BCEA-DC250273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CA5-EF29-4104-B026-8DAF4F4A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A4B-163B-4BDB-8401-7D842612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E5E0-5BDD-451D-AA8D-C5D81FE0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F2D-9C79-4512-81BA-46A391C9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097F-5B98-44FA-97CA-09979A55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B9EF-06D9-4CFB-AAC2-98DB5B8E38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473B-02E1-4D12-A0DD-C2566803DB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um ne influenteaza televiziunea viata de zi cu zi?</a:t>
            </a: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86200" y="3505320"/>
            <a:ext cx="97956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15000" y="2895480"/>
            <a:ext cx="2209680" cy="1524240"/>
          </a:xfrm>
          <a:prstGeom prst="cloudCallout">
            <a:avLst>
              <a:gd name="adj1" fmla="val -94972"/>
              <a:gd name="adj2" fmla="val -562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S télévisionS en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01680"/>
            <a:ext cx="6931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despre</a:t>
            </a: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sturile TV din Fra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ţ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1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 chaînes de télévision en France sont très intéressantes.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us d'informations sur chaque chaîne de télévis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552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376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spre utilitatea unui post TV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bog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ţ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rea vocabularului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limba francez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1600200"/>
          <a:ext cx="8077320" cy="463392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 sais que les chaînes tv  sont importantes dans le développement du vocabulaire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 veux savoir les actualités pour développer mon vocabulaire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426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Ioana</cp:lastModifiedBy>
  <dcterms:modified xsi:type="dcterms:W3CDTF">2009-10-18T14:35:36Z</dcterms:modified>
  <cp:revision>19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